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C3F-DEFA-473E-AD4D-7356CBF9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1BF-2C71-4E80-96DD-568AB0D0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753-F72D-4115-A371-64E17001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A38-41FA-43E3-89FC-B91C8A3D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962-0D89-4621-9AE8-879FCC1A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21A-6B1E-4E08-8330-553F68C3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43DB-328F-49F2-A2C5-16443C8D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4EB-D7EE-4BD9-AE46-FDD57709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CE1-226F-4D96-8466-3C147395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834-8CE5-4C70-A9DE-4606DEA5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C79-DA7A-4917-B9B3-88ACF787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B8E-E2F3-448A-80A9-0E446FAD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B29E-0536-4F56-AE71-F899552A9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8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80"/>
                </a:solidFill>
                <a:latin typeface="comic"/>
              </a:rPr>
              <a:t>Pedijatriska anestezij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PUTEVI PRIM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UBLINGVAL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NTRAOSEAL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RAHEAL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PREOPERATIVNA VIZ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5404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NAMN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FIZIKALNI PREG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LABORATORIJSKA 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SIHOLOŠKA PRIP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PREOPERATIVNO GLADO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LAKI OBROK DO 6h 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ASNI OBROK (MESO) DO 8h 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LEKO 4h 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ČISTE TEČNOSTI 2-3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HITNE OPERACIJE – PUN STO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PREMEDIK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EDATIV (MIDAZOL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NTIHOLINERGIK (ATROPIN, GLIKOPIROL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NALGE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ile0018"/>
          <p:cNvPicPr/>
          <p:nvPr/>
        </p:nvPicPr>
        <p:blipFill>
          <a:blip r:embed="rId1"/>
          <a:srcRect l="0" t="0" r="0" b="8140"/>
          <a:stretch/>
        </p:blipFill>
        <p:spPr>
          <a:xfrm>
            <a:off x="1403280" y="1066680"/>
            <a:ext cx="5662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DIJUMI ANESTE</a:t>
            </a: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Z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UBITAK NISTAGMUSA – GUBITAK SV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UBITAK REFLEKSA TREPAVICA – UKLJUČITI INFUZIJU, ČISTITI PO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CENTRIRANE ZENICE – INTUBACIJA, 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OROFARINGEALNI TU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File0019"/>
          <p:cNvPicPr/>
          <p:nvPr/>
        </p:nvPicPr>
        <p:blipFill>
          <a:blip r:embed="rId1"/>
          <a:srcRect l="0" t="0" r="0" b="21245"/>
          <a:stretch/>
        </p:blipFill>
        <p:spPr>
          <a:xfrm>
            <a:off x="-380880" y="2438280"/>
            <a:ext cx="9524880" cy="373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 rot="10800000">
            <a:off x="228600" y="5485680"/>
            <a:ext cx="7632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,,SNIFFING,, POLOŽ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File0011"/>
          <p:cNvPicPr/>
          <p:nvPr/>
        </p:nvPicPr>
        <p:blipFill>
          <a:blip r:embed="rId1"/>
          <a:stretch/>
        </p:blipFill>
        <p:spPr>
          <a:xfrm>
            <a:off x="1447920" y="1676520"/>
            <a:ext cx="67053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KRIKOIDNI PRITIS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File0007"/>
          <p:cNvPicPr/>
          <p:nvPr/>
        </p:nvPicPr>
        <p:blipFill>
          <a:blip r:embed="rId1"/>
          <a:stretch/>
        </p:blipFill>
        <p:spPr>
          <a:xfrm>
            <a:off x="1219320" y="1628640"/>
            <a:ext cx="57909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ENDOTRAHEALNA INTUB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O 4m ILI 5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TEŽAN DISAJNI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UN STO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HIPOVENTIL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JEDINE 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TEŽAN PRISTUP ANESTEZIO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RAJANJE PREKO 1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File0016"/>
          <p:cNvPicPr/>
          <p:nvPr/>
        </p:nvPicPr>
        <p:blipFill>
          <a:blip r:embed="rId1"/>
          <a:stretch/>
        </p:blipFill>
        <p:spPr>
          <a:xfrm>
            <a:off x="609480" y="166680"/>
            <a:ext cx="731520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PRAVA ŠPA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File0020"/>
          <p:cNvPicPr/>
          <p:nvPr/>
        </p:nvPicPr>
        <p:blipFill>
          <a:blip r:embed="rId1"/>
          <a:srcRect l="0" t="0" r="0" b="15846"/>
          <a:stretch/>
        </p:blipFill>
        <p:spPr>
          <a:xfrm>
            <a:off x="380880" y="1952640"/>
            <a:ext cx="79250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ODRŽAVANJE ANESTEZ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O 1god: TUBUS + KONTROLISANA VENTIL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KO 1g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ASKA DO 1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UBUS + KONTROLISANA VENT. PREKO 1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EKSTUBACIJA U BUDNOM ST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OJE SMO TEŠKO INTUBIR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HITNE INTERV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O 3m (1g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OGUĆA OPSTRUKCIJA DISAJNOG P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LINIČKI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KORDIJALNI STETOSK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ULS OKSIME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APNOG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KRV MLAĐA OD 5 DAN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ONATU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OD DUGIH OPER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OD VELIKIH GUBI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OD OŠTEĆENE FUNKCIJE J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ISAJNI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DOKNADA T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ZOGASTRIČNA SO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TOPLJ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LOŽ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NALGE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File0033"/>
          <p:cNvPicPr/>
          <p:nvPr/>
        </p:nvPicPr>
        <p:blipFill>
          <a:blip r:embed="rId1"/>
          <a:srcRect l="0" t="0" r="0" b="19637"/>
          <a:stretch/>
        </p:blipFill>
        <p:spPr>
          <a:xfrm>
            <a:off x="0" y="457200"/>
            <a:ext cx="96012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Glotis bebe (edematizan, omega oblika) i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otis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dras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10-15"/>
          <p:cNvPicPr/>
          <p:nvPr/>
        </p:nvPicPr>
        <p:blipFill>
          <a:blip r:embed="rId1"/>
          <a:stretch/>
        </p:blipFill>
        <p:spPr>
          <a:xfrm>
            <a:off x="0" y="1990800"/>
            <a:ext cx="91440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File0017"/>
          <p:cNvPicPr/>
          <p:nvPr/>
        </p:nvPicPr>
        <p:blipFill>
          <a:blip r:embed="rId1"/>
          <a:srcRect l="0" t="0" r="0" b="11534"/>
          <a:stretch/>
        </p:blipFill>
        <p:spPr>
          <a:xfrm>
            <a:off x="1295280" y="44280"/>
            <a:ext cx="716292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503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VOLUMEN KRVI 80-86ml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-ISPOD 2m Hb 12-13g/dl (kao 8-9g/dl ODRASLI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-sa 3m Hb 8,2g/dl (kao 10g/dl ODRASLI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1676520"/>
            <a:ext cx="9217080" cy="43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SLABO RAZVIJENI METABOLIZAM U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I DETOKS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NORMALNI SINTEZA ALBUM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I FAKTORA KOAGUL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04920" y="2590920"/>
            <a:ext cx="94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-SMANJENA SPOSOBNOST IZLUČIVANJA T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-SMANJENA SPOSOBNOST IZLUČIVANJA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-PREMATURUSI SKLONI HIPONATREM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60560" y="1189080"/>
            <a:ext cx="6688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SUBKUTANOG MASNOG TKIVA IMA M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NERAZVIJENA SPOSOBNOST DRH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HIPOTERMIJA – RESPIRATORNA DEPRESI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VAZOKONSTRIKCIJA, PAD MV SRC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SMANJEN METABOLIZAM LE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RMAKOLOG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kg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Š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ANJE PROTE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EOSETLJIVI RECEP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BRŽA CIRKUL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EĆI ODNOS AV/F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ANJA RASTVORLJIVOST KRV/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EĆA J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ZREO BUBR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5:02:49Z</dcterms:created>
  <dc:creator>dussin</dc:creator>
  <dc:description/>
  <dc:language>en-US</dc:language>
  <cp:lastModifiedBy>Korisnik</cp:lastModifiedBy>
  <dcterms:modified xsi:type="dcterms:W3CDTF">2020-04-28T17:55:59Z</dcterms:modified>
  <cp:revision>22</cp:revision>
  <dc:subject/>
  <dc:title>DEČJA ANESTEZIJA</dc:title>
</cp:coreProperties>
</file>